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3429-6B6B-4179-B415-C0D18035C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04E6-81A9-4B22-B0B1-3DA84616E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FACF-1689-4D44-B4EF-79DE1EB10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BB23-B993-47FA-B352-11E4FC314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8F66-C30C-4B72-B62C-6334F2E73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4BC7-8797-47D5-8637-D462CC93B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CCCE-0C85-4DB6-8855-3C313A40D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18E0-AB71-495A-A46F-AC5BF4424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9273-98A5-4E10-BDF9-2EC778DAB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2B46-70EE-404A-9912-C2979E511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1DF4-A147-4852-BD02-2A96C34A2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6987-3636-4C4C-A6CF-6B4011610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3D3-5963-401B-B8A9-48A0ED41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80F7-58BF-40AE-ADA1-824CE786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E9D4-E19C-4320-BB4B-FF119354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E72A-EC67-4678-A103-741F3E31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1BAA-0088-40DF-BB30-5C170287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B478-8B04-4C62-921D-07D60EBB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E816-BE05-4D72-8F74-33A3CE2B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1128-5394-4A4E-B9B9-1201885A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8F38-42B0-42C6-8D09-939826DD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4886-0B5A-4356-B261-0D689CC7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0572-B922-4F53-81E8-13D3CDFF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81FB-F9FE-4252-8B8F-5E92773E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AFBA-1719-4B2D-AF4A-5B0187859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0" y="762120"/>
            <a:ext cx="9144000" cy="25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3300"/>
                </a:solidFill>
                <a:uFillTx/>
                <a:latin typeface="Times New Roman"/>
              </a:rPr>
              <a:t>Federal Syst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legated Powers     Concurrent Powers   Reserved Pow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(National Government)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  (Shared)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     (State Gover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6"/>
          <p:cNvSpPr/>
          <p:nvPr/>
        </p:nvSpPr>
        <p:spPr>
          <a:xfrm>
            <a:off x="2971800" y="160020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>
            <a:off x="5867280" y="160020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8" descr="usa"/>
          <p:cNvPicPr/>
          <p:nvPr/>
        </p:nvPicPr>
        <p:blipFill>
          <a:blip r:embed="rId1"/>
          <a:stretch/>
        </p:blipFill>
        <p:spPr>
          <a:xfrm>
            <a:off x="0" y="3886200"/>
            <a:ext cx="2895480" cy="2089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olorado"/>
          <p:cNvPicPr/>
          <p:nvPr/>
        </p:nvPicPr>
        <p:blipFill>
          <a:blip r:embed="rId2"/>
          <a:stretch/>
        </p:blipFill>
        <p:spPr>
          <a:xfrm>
            <a:off x="6324480" y="3505320"/>
            <a:ext cx="2384640" cy="259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shaking"/>
          <p:cNvPicPr/>
          <p:nvPr/>
        </p:nvPicPr>
        <p:blipFill>
          <a:blip r:embed="rId3"/>
          <a:stretch/>
        </p:blipFill>
        <p:spPr>
          <a:xfrm>
            <a:off x="3276720" y="3809880"/>
            <a:ext cx="220968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coloradocap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8290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1752480" y="563868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7c80"/>
                </a:solidFill>
                <a:latin typeface="Times New Roman"/>
              </a:rPr>
              <a:t>Number 38 / 187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olor4coins"/>
          <p:cNvPicPr/>
          <p:nvPr/>
        </p:nvPicPr>
        <p:blipFill>
          <a:blip r:embed="rId1"/>
          <a:stretch/>
        </p:blipFill>
        <p:spPr>
          <a:xfrm>
            <a:off x="1371600" y="0"/>
            <a:ext cx="5757840" cy="69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iwo-ji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tax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2133720" y="3836880"/>
            <a:ext cx="25146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terna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nu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rvi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0" y="838080"/>
            <a:ext cx="3809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tlo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ke Running Shoes - $9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les tax (5%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-   $4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- $94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ourthouse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70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olice"/>
          <p:cNvPicPr/>
          <p:nvPr/>
        </p:nvPicPr>
        <p:blipFill>
          <a:blip r:embed="rId1"/>
          <a:stretch/>
        </p:blipFill>
        <p:spPr>
          <a:xfrm>
            <a:off x="0" y="345960"/>
            <a:ext cx="914400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tms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421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wedding"/>
          <p:cNvPicPr/>
          <p:nvPr/>
        </p:nvPicPr>
        <p:blipFill>
          <a:blip r:embed="rId1"/>
          <a:stretch/>
        </p:blipFill>
        <p:spPr>
          <a:xfrm>
            <a:off x="60948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onagra"/>
          <p:cNvPicPr/>
          <p:nvPr/>
        </p:nvPicPr>
        <p:blipFill>
          <a:blip r:embed="rId1"/>
          <a:stretch/>
        </p:blipFill>
        <p:spPr>
          <a:xfrm>
            <a:off x="2514600" y="228600"/>
            <a:ext cx="3124080" cy="2365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hef_boyardee"/>
          <p:cNvPicPr/>
          <p:nvPr/>
        </p:nvPicPr>
        <p:blipFill>
          <a:blip r:embed="rId2"/>
          <a:stretch/>
        </p:blipFill>
        <p:spPr>
          <a:xfrm>
            <a:off x="5791320" y="519120"/>
            <a:ext cx="3352680" cy="2036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slimjim"/>
          <p:cNvPicPr/>
          <p:nvPr/>
        </p:nvPicPr>
        <p:blipFill>
          <a:blip r:embed="rId3"/>
          <a:stretch/>
        </p:blipFill>
        <p:spPr>
          <a:xfrm>
            <a:off x="228600" y="228600"/>
            <a:ext cx="2424240" cy="2666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safeway"/>
          <p:cNvPicPr/>
          <p:nvPr/>
        </p:nvPicPr>
        <p:blipFill>
          <a:blip r:embed="rId4"/>
          <a:stretch/>
        </p:blipFill>
        <p:spPr>
          <a:xfrm>
            <a:off x="990720" y="4227480"/>
            <a:ext cx="7467480" cy="263052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>
            <a:off x="1905120" y="2819520"/>
            <a:ext cx="457200" cy="13716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 flipH="1">
            <a:off x="6324120" y="2743200"/>
            <a:ext cx="381240" cy="144792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4038480" y="3124080"/>
            <a:ext cx="0" cy="99072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3352680" y="24382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$ $ $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01:25:46Z</dcterms:created>
  <dc:creator>Curt Ranweiler</dc:creator>
  <dc:description/>
  <dc:language>en-US</dc:language>
  <cp:lastModifiedBy>BHS</cp:lastModifiedBy>
  <dcterms:modified xsi:type="dcterms:W3CDTF">2009-09-10T14:20:54Z</dcterms:modified>
  <cp:revision>6</cp:revision>
  <dc:subject/>
  <dc:title>PowerPoint Presentation</dc:title>
</cp:coreProperties>
</file>